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897B-06B3-445F-B47E-3F4581C67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279C-2C1F-429E-A2D4-3C6FB771A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A023-20BD-444F-86DB-522D42BC4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562E-0971-40C0-810B-0173D8641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91395-8C2B-4E9F-983C-C1B63E035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294D3-251E-42D2-A018-4F140542D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79E25-11A9-4659-BDE6-8AD845548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549A0-4740-4FCD-A3FA-220C30C85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049F1-0ABA-4919-9A4F-971E4EFE7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F738B-FF9F-44D0-AFF0-8C2906BCC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1AF56-916B-43AB-A613-0EE33CDF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C060-1E80-4DDC-B9EF-EDF911321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ABB03-E746-4402-A16E-401EBB32E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CDB15-02A4-4610-BFD6-F65E0301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112D4-0805-4264-B38A-9584972A5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964B3-3F63-46E0-90EC-5AFE04100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361AC-2753-4E40-9E1C-00ADDEE39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2B27-721E-4554-9A1A-D8B2456C0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0DE1-2019-48D5-B7AA-AC71DCE14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0A93-C52B-4E65-9A53-9797EE958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3755-CE45-4BE2-86DE-59569201B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F8DF-ACCB-4729-B156-7F0109529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F370-8CE1-40A4-8AAD-13886FD26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0774-F81A-4DEE-A391-65E329A9C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53A85-1DB1-4340-A228-7D6E94E970E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CF4D3-D667-4EAB-A123-FBD9808177D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1873080"/>
            <a:ext cx="8534160" cy="15559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Arial"/>
              </a:rPr>
              <a:t>Object-Oriented Programming</a:t>
            </a:r>
            <a:br>
              <a:rPr sz="4400"/>
            </a:br>
            <a:r>
              <a:rPr b="1" lang="en-US" sz="4400" spc="-1" strike="noStrike">
                <a:solidFill>
                  <a:srgbClr val="666699"/>
                </a:solidFill>
                <a:latin typeface="Arial"/>
              </a:rPr>
              <a:t>with C#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52280" y="228600"/>
            <a:ext cx="8839440" cy="29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sume you have created a custom class by name IDGenerator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defines a static method by name GetNewEmpID(), which generates a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new employee I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ce we gather the correct set of startup parameters, we can forwar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he creation request to the alternate three-argument construct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we did not forward the call, we would need to add redundant cod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o each constructo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3489480"/>
            <a:ext cx="8686800" cy="19234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currPay automatically set to 0.0F via default valu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Employee(string fullNam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.fullName = fullNam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.empID = IDGenerator.GetNewEmpID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1602-907D-4472-AEB4-7C4145785FE7}" type="slidenum">
              <a:t>10</a:t>
            </a:fld>
          </a:p>
        </p:txBody>
      </p:sp>
    </p:spTree>
  </p:cSld>
  <p:transition spd="med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28600" y="166680"/>
            <a:ext cx="868680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ecifying Type Visibility: Public and Internal Ty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890640"/>
            <a:ext cx="876312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ch member defined by a class must establish its level of visibilit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using the "public", "private", "protected", "internal", or "protecte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internal" keywor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method visibility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 used to constrain which members can b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ccessed from a given object, and 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type visibility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 used to establish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which parts of the system can create the types themsel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non-nested C# type can be marked by one of two visibilit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keywords: "public" or "internal“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types may be created by any other objects within the sam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ssembly as well as by other external assembl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5B27-8403-4CD9-843C-59D8A6C671A0}" type="slidenum">
              <a:t>11</a:t>
            </a:fld>
          </a:p>
        </p:txBody>
      </p:sp>
    </p:spTree>
  </p:cSld>
  <p:transition spd="med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28600" y="76320"/>
            <a:ext cx="8686800" cy="18316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HelloCl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Any number of methods with any number of parameters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Default or custom constructors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If this is the program's entry point, a static Main() metho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1968480"/>
            <a:ext cx="8839440" cy="19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y default, if you do not explicitly mark the visibility level of a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lass, it is implicitly set to "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interna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"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nal classes can only be created by types living within the sam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ssembly, and are not accessible from outside the assembly's boun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3581280"/>
            <a:ext cx="8686800" cy="1435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Internal classes can only be used by othe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yp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in the same assemb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nal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HelloClassHelp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029200"/>
            <a:ext cx="868680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type is simply a generic term used to refer to classes, structures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enumerations, interfaces, and delega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asses are not the only UDT that can accept a visibility attribu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2871-29BA-4B53-9450-CAD8AD441DD1}" type="slidenum">
              <a:t>12</a:t>
            </a:fld>
          </a:p>
        </p:txBody>
      </p:sp>
    </p:spTree>
  </p:cSld>
  <p:transition spd="med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28600" y="228600"/>
            <a:ext cx="8915400" cy="6403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namespace HelloTyp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// Cannot be used outside this assembly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internal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struct 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rivate int my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ublic int GetMyX() { return myX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ublic X(int x) { myX = x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// Cannot be used outside this assemb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internal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enum Lett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 a = 0, b = 1, c = 2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// May be used outside this assemb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public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class HelloCl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ublic static int Main(string[] arg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X theX = new X(26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Line("{0}\n{1}", theX.GetMyX(), Letters.b.ToString(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return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3E98-C7FC-4C86-8CA7-AE5319A486AA}" type="slidenum">
              <a:t>13</a:t>
            </a:fld>
          </a:p>
        </p:txBody>
      </p:sp>
    </p:spTree>
  </p:cSld>
  <p:transition spd="med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52280" y="152280"/>
            <a:ext cx="876312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First Pillar: C#’s Encapsulation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838080"/>
            <a:ext cx="8686800" cy="35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oncept of encapsulation means that an object's internal data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hould not be directly accessible from an object insta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an object user wishes to alter the state of an object, this can b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done indirectly using accessor (get) and mutator (set) metho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C#, encapsulation is enforced at the syntactic level using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"public", "private", "protected", and "protected internal" keywor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illustrate, assume you have created the following clas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defini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4419720"/>
            <a:ext cx="8305560" cy="22885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 A class with a single fie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class Bo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int numberOfPage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B39A-FCB1-457E-93B1-4927166DA2BC}" type="slidenum">
              <a:t>14</a:t>
            </a:fld>
          </a:p>
        </p:txBody>
      </p:sp>
    </p:spTree>
  </p:cSld>
  <p:transition spd="med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problem with public field data is that the items have no abilit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to "understand" if the current value to which they are assigned i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valid with regard to the current business rules of the syst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0880" y="1523880"/>
            <a:ext cx="8534520" cy="1618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static void Main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k miniNovel = new Book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iNOvel.numberOfPages = 3000000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3352680"/>
            <a:ext cx="868680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though you do not overflow the boundaries of an integer data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ype, it should be clear that a mini-novel with a page count of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30,000,000 pages is a bit unreason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fields do not provide a way to enforce data validation ru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capsulation provides a way to preserve the integrity of state da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C340-1AFE-4A51-B08A-14E2FD618972}" type="slidenum">
              <a:t>15</a:t>
            </a:fld>
          </a:p>
        </p:txBody>
      </p:sp>
    </p:spTree>
  </p:cSld>
  <p:transition spd="med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228600"/>
            <a:ext cx="8686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stead of defining public fields,  we should use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rivate data field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which are indirectly manipulated by the caller using one of two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main techniqu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Define a pair of traditional accessor and mutator metho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Define a named proper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ichever technique we choose, the point is that a well-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encapsulated class should hide its raw data and the details of how i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operates from the eyes of the outside worl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is often termed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black box programm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90DC-E673-4F2A-B6A9-854BE62AE8B0}" type="slidenum">
              <a:t>16</a:t>
            </a:fld>
          </a:p>
        </p:txBody>
      </p:sp>
    </p:spTree>
  </p:cSld>
  <p:transition spd="med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52280" y="152280"/>
            <a:ext cx="8763120" cy="9471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forcing Encapsulation Using Traditional Accessors and Mut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1066680"/>
            <a:ext cx="88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want the outside world to interact with your private data field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his can be done defining a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ccessor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get method) and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utator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se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method). For examp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" y="2286000"/>
            <a:ext cx="8686800" cy="4208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Traditional accessor and mutator for a point of private dat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class Employe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te string fullNam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Access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string GetFullName(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fullName;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Mutat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void SetFullName(string 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llName = n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4931-F39C-426C-B209-D61DD1DA4FA8}" type="slidenum">
              <a:t>17</a:t>
            </a:fld>
          </a:p>
        </p:txBody>
      </p:sp>
    </p:spTree>
  </p:cSld>
  <p:transition spd="med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52280" y="15228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alling logic is as follow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685800"/>
            <a:ext cx="8763120" cy="34480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Accessor/mutator usa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static int Main(string[] arg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ployee p = new Employee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tFull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"Fred Flintstone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Employee is named: {0}", p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etFull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)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Error below! Can't access private data from an object instan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p.fullNam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A0DD-5766-4C3E-8E88-C9DDE0082F10}" type="slidenum">
              <a:t>18</a:t>
            </a:fld>
          </a:p>
        </p:txBody>
      </p:sp>
    </p:spTree>
  </p:cSld>
  <p:transition spd="med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52280" y="152280"/>
            <a:ext cx="876312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other Form of Encapsulation: Class Proper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" y="685800"/>
            <a:ext cx="8763120" cy="29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contrast to traditional accessor and mutator methods, .NE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languages prefer to enforce encapsulation using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roperti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stead of using two different methods to get and set the data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the user is able to call what appears to be a single named fie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illustrate, assume we have provided a property named EmpI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hat wraps the internal empID member variable of the Employe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ype. The calling logic would look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" y="3733920"/>
            <a:ext cx="8610480" cy="25628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static int Main(string[] arg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mployee p = new Employe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Set the valu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mpID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8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Get the valu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ole.WriteLine("Person ID is: {0} ", p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mpI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04BE-CF9C-47A8-B28A-2E60D5573A10}" type="slidenum">
              <a:t>19</a:t>
            </a:fld>
          </a:p>
        </p:txBody>
      </p:sp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28600" y="81000"/>
            <a:ext cx="86868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mal Definition of the C# Cl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91440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68580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class is nothing more than a user-defined type (UDT) that i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omposed of field data (sometimes termed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ember variabl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an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functions (often called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ethod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OO) that act on the dat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6000" y="1930320"/>
            <a:ext cx="8839080" cy="4759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// The initial Employee class definition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namespace Employee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public class Employe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// Field data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private string fullName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private int empI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private float currP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// Constructors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public Employee()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public Employee(string fullName, int empID, float currPay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this.fullName = fullName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this.empID = empI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this.currPay = currP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E1B9-1DCE-41BD-96AA-E22B551FA853}" type="slidenum">
              <a:t>2</a:t>
            </a:fld>
          </a:p>
        </p:txBody>
      </p:sp>
    </p:spTree>
  </p:cSld>
  <p:transition spd="med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04920" y="152280"/>
            <a:ext cx="8458200" cy="3934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Custom property for the EmpID data poi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class Employe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te int empI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Property for the empID data poi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int Emp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et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 return empID;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mpID =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alu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4038480"/>
            <a:ext cx="868680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# "value" keyword represents the right-hand side of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ssignment. "value" is also an object in C#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C# property is composed using a get block (accessor) and se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block (mutator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5791320"/>
            <a:ext cx="7315200" cy="1008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81 is a System.Int32, so "value" is a System.Int3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ployee p = new Employee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.EmpI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81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B45F-77D8-4E32-BF77-54CD17826154}" type="slidenum">
              <a:t>20</a:t>
            </a:fld>
          </a:p>
        </p:txBody>
      </p:sp>
    </p:spTree>
  </p:cSld>
  <p:transition spd="med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04920" y="152280"/>
            <a:ext cx="85341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w assume you have created an Employee object named jo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 his birthday, you wish to increment the age by on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ing traditional accessor and mutator methods, you would nee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o write code such as the follow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2286000"/>
            <a:ext cx="8458200" cy="8254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loyee joe = new Employee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e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t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joe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t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) + 1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34290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encapsulate empAge using property syntax, simply wri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4191120"/>
            <a:ext cx="8458200" cy="8254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loyee joe = new Employee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e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+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9413-C729-4C73-A6C3-EAC6DB29A546}" type="slidenum">
              <a:t>21</a:t>
            </a:fld>
          </a:p>
        </p:txBody>
      </p:sp>
    </p:spTree>
  </p:cSld>
  <p:transition spd="med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52280" y="152280"/>
            <a:ext cx="876312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rnal Representation of C# Proper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52280" y="609480"/>
            <a:ext cx="876312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ny programmers tend to design traditional accessor and mutato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methods using “get_” and “set_” prefix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is important to understand that , a C# property is internall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represented using these same prefix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4920" y="2422440"/>
            <a:ext cx="8610480" cy="43628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class Employe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Assume this member is assigned by the class constructo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rivate string empSSN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string SS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get { return empSSN; } // Maps to get_SSN(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et { empSSN = value;} // Maps to set_SSN(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ERROR! Already defined under the hood by SSN property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string 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get_SSN()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{ return empSSN;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void 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set_SSN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(string val) { empSSN = val;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2376-75EF-40DF-9E1A-4143AE3418DF}" type="slidenum">
              <a:t>22</a:t>
            </a:fld>
          </a:p>
        </p:txBody>
      </p:sp>
    </p:spTree>
  </p:cSld>
  <p:transition spd="med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52280" y="152280"/>
            <a:ext cx="876312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ad-Only and Write-Only Proper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52280" y="838080"/>
            <a:ext cx="876312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building custom properties, we may wish to configure a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read-only propert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do so, simply build a property without a corresponding set block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Likewise, if you wish to have a write-only property, omit the ge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bloc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9AAF-AD63-4715-80B9-4AB8C45B7C23}" type="slidenum">
              <a:t>23</a:t>
            </a:fld>
          </a:p>
        </p:txBody>
      </p:sp>
    </p:spTree>
  </p:cSld>
  <p:transition spd="med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28600" y="228600"/>
            <a:ext cx="8610480" cy="6192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class Employe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te string empSSN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Employee(string FullName, int empID, float currPay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ring ss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.fullName = FullNam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.empID = empID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.currPay = currPay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s.empSSN = ssn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Now as a read-only proper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string SS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e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empSSN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2EE6-DE9B-45C8-9526-D345A90838C7}" type="slidenum">
              <a:t>24</a:t>
            </a:fld>
          </a:p>
        </p:txBody>
      </p:sp>
    </p:spTree>
  </p:cSld>
  <p:transition spd="med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52280" y="152280"/>
            <a:ext cx="876312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derstanding Static Proper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280" y="914400"/>
            <a:ext cx="883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# also supports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tatic properti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Recall  that static members ar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ccessed at the class level, not from an instance (object) of that cla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may define a static property for a Employee type as follow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52280" y="2803680"/>
            <a:ext cx="8839440" cy="34480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Static properties must operate on static data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class Employe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t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tic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ing companyNam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tic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ing Compan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t { return companyName;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{ companyName = value;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8A00-0281-4A7C-A72D-C6258A184A2B}" type="slidenum">
              <a:t>25</a:t>
            </a:fld>
          </a:p>
        </p:txBody>
      </p:sp>
    </p:spTree>
  </p:cSld>
  <p:transition spd="med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28600" y="15228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2280" y="152280"/>
            <a:ext cx="876312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derstanding Static Constru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2280" y="838080"/>
            <a:ext cx="883944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# supports the use of static constructors that serve no other purpos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han to assign initial values to static da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ntactically, static constructors are odd as that they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annot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ke a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visibility modifi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" y="2743200"/>
            <a:ext cx="8610480" cy="2533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static constructors are used to initialize static da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class Employe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t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tic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ing companyNam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tic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ployee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 companyName = "Intertech, Inc";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F544-0900-420E-895C-B23CDBBC5AE0}" type="slidenum">
              <a:t>26</a:t>
            </a:fld>
          </a:p>
        </p:txBody>
      </p:sp>
    </p:spTree>
  </p:cSld>
  <p:transition spd="med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28600" y="22860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we want to invoke the Employee.Company property, there is no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need to assign an initial value within the Main() method, as the static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onstructor does so automatical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" y="1523880"/>
            <a:ext cx="8763120" cy="1618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Automatically set to "Intertech, Inc" via the static construct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static int Main(string[] arg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These folks work at {0} "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mployee.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0CBD-152D-4642-935A-2AD533EE144E}" type="slidenum">
              <a:t>27</a:t>
            </a:fld>
          </a:p>
        </p:txBody>
      </p:sp>
    </p:spTree>
  </p:cSld>
  <p:transition spd="med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52280" y="152280"/>
            <a:ext cx="876312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seudo-Encapsulation: Creating Read-Only Fiel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280" y="838080"/>
            <a:ext cx="8763120" cy="25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osely related to read-only properties is the notion of read-onl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ield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ad-only fields offer data preservation via the "readonly" keywor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y way of a simple example, assume you have a read-only fiel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named SSNField that offers an alternative manner for the caller to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obtain an employee's SS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CF85-3885-4D4A-ABA3-1C448FF11268}" type="slidenum">
              <a:t>28</a:t>
            </a:fld>
          </a:p>
        </p:txBody>
      </p:sp>
    </p:spTree>
  </p:cSld>
  <p:transition spd="med"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28600" y="228600"/>
            <a:ext cx="8686800" cy="4667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class Employe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Read-only field (set in the ctor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adonl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ing SSNField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Employee(string FullName, int empID, float currPay, string ss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.fullName = FullNam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.empID = empID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.currPay = currPay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.empSSN = ssn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Assign read-only fiel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SNField = ssn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5613-424D-4F8F-8AF1-D87344B59785}" type="slidenum">
              <a:t>29</a:t>
            </a:fld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14480" y="76320"/>
            <a:ext cx="8991360" cy="5934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blic void GiveBonus(float amoun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 currPay += amount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/ Show current state of this objec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blic void DisplayStats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ole.WriteLine("Name: {0} ", fullName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ole.WriteLine("Pay: {0} ", currPay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ole.WriteLine("ID: {0} ", emp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mployee e = new Employee("Joe", 80, 30000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/Employee e= new Employee(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mployee e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2 = new Employee("Beth", 81, 50000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.DisplayStats(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2.DisplayStats(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ole.ReadLine(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E5A9-DE65-4009-BA58-C8EAE9D6B731}" type="slidenum">
              <a:t>3</a:t>
            </a:fld>
          </a:p>
        </p:txBody>
      </p:sp>
    </p:spTree>
  </p:cSld>
  <p:transition spd="med"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76320" y="152280"/>
            <a:ext cx="891540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atic Read-Only Fiel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" y="838080"/>
            <a:ext cx="8686800" cy="34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tic read-only fields are also permissibl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"readonly" seems to be a close cousin  to the "const" keywor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ifference is that the value assigned to "const" must b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resolved at compile time, and therefore cannot be assigned a new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type instanc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value of read-only static fields, may be computed at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untim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nd therefore may be assigned type instances as well as simply data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ypes (int, float, string, etc.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E63C-42BE-40C1-A44F-3DB884E037A1}" type="slidenum">
              <a:t>30</a:t>
            </a:fld>
          </a:p>
        </p:txBody>
      </p:sp>
    </p:spTree>
  </p:cSld>
  <p:transition spd="med"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52280" y="152280"/>
            <a:ext cx="8686800" cy="6497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The Tire class has a number of read-only fiel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class Ti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Given that the state of the Tire type is determined 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runtime, w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no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 the 'const' keyword here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ERROR: public const Tire GoodStone = new Tire(90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In contrast, the 'readonly' keyword can be assign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values which are computed at runtim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static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adonl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re GoodStone = new Tire(90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static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adonl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re FireYear = new Tire(100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static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adonl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re ReadyLyne= new Tire(43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static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adonl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re Blimpy = new Tire(83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te int manufactureID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int Mak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t { return manufactureID; }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Tire (int 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 manufactureID = ID;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FDEA-17E4-4943-9EF4-6B2C7984B89D}" type="slidenum">
              <a:t>31</a:t>
            </a:fld>
          </a:p>
        </p:txBody>
      </p:sp>
    </p:spTree>
  </p:cSld>
  <p:transition spd="med"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28600" y="152280"/>
            <a:ext cx="8686800" cy="5887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Make use of a dynamically created read-only fiel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class C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What sort of tires do I ha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Tire tireType 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ire.Blimpy; // Returns a new Ti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class CarAp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static int Main(string[] arg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c = new Car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Prints out "Manufacture ID of tires: 83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Manufacture ID of tires: {0} "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tireType.MakeID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B1C4-7C4A-4DC7-BFE2-E9D29183CAE9}" type="slidenum">
              <a:t>32</a:t>
            </a:fld>
          </a:p>
        </p:txBody>
      </p:sp>
    </p:spTree>
  </p:cSld>
  <p:transition spd="med"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76320" y="114480"/>
            <a:ext cx="906768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Second Pillar: C#’s Inheritance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838080"/>
            <a:ext cx="8686800" cy="25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heritance is the aspect of OOP that facilitates code reu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heritance comes in two flavors: classical inheritance (the “is-a”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relationship) and the containment/delegation model (the “has-a”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relationship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basic idea behind classical inheritance is that new classes ma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leverage the functionality of other clas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676520" y="3657600"/>
            <a:ext cx="5333760" cy="2614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D0EF-869B-4113-8911-9CCD42ECFB97}" type="slidenum">
              <a:t>33</a:t>
            </a:fld>
          </a:p>
        </p:txBody>
      </p:sp>
    </p:spTree>
  </p:cSld>
  <p:transition spd="med"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28600" y="152280"/>
            <a:ext cx="868680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can see that a SalesPerson “is-a” Employee (as is a Manage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the classical inheritance model, base classes are used to defin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general characteristics that are common to all descendent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bclasses extend this general functionality while adding mor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pecific behavi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C#, extending a class is accomplished using the colon operato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(:) on the class defini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5CE2-863D-4F27-8DF5-0D271B4D9FB2}" type="slidenum">
              <a:t>34</a:t>
            </a:fld>
          </a:p>
        </p:txBody>
      </p:sp>
    </p:spTree>
  </p:cSld>
  <p:transition spd="med"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28600" y="76320"/>
            <a:ext cx="8686800" cy="6677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// Add two new subclasses to the Employees namesp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namespace Employe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ublic class Manager : Employe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// Managers need to know their number of stock op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private ulong numberOfOption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ublic ulong NumbOp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get { return numberOfOptions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set { numberOfOptions = value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ublic class SalesPerson : Employe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// Salespeople need to know their number of sal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private int numberOfSale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ublic int NumbS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get { return numberOfSales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set { numberOfSales = value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0BC0-A0AD-4495-A22A-AA3A5A0F82CD}" type="slidenum">
              <a:t>35</a:t>
            </a:fld>
          </a:p>
        </p:txBody>
      </p:sp>
    </p:spTree>
  </p:cSld>
  <p:transition spd="med"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28600" y="22860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w we have established an “is-a” relationship, SalesPerson an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Manager have automatically inherited all public (and protected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members of the Employee base class. To illustra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1698480"/>
            <a:ext cx="8839080" cy="44830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// Create a subclass and access base class functional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// Make a salespers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SalesPerson stan = new SalesPerson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// These members are inherited from the Employee base cla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stan.ID = 100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stan.Name = "Stan"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// This is defined by the SalesPerson cla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stan.NumbSales = 42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Console.ReadLine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BA2E-DC9B-4119-9334-49B7843321D4}" type="slidenum">
              <a:t>36</a:t>
            </a:fld>
          </a:p>
        </p:txBody>
      </p:sp>
    </p:spTree>
  </p:cSld>
  <p:transition spd="med"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28600" y="81000"/>
            <a:ext cx="868680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rolling Base Class Creation with 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" y="762120"/>
            <a:ext cx="876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rrently, SalesPerson and Manager can only be created using a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default constructor. Now assume you have added a new six-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rgument constructor to the Manager type, which is invoked a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follow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04920" y="2451240"/>
            <a:ext cx="8610480" cy="17398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// Assume we now have the following construct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// (name, age, ID, pay, SSN, number of stock option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Manager chucky = new Manager("Chucky", 35, 92, 100000, "333-23-2322", 9000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" y="4390920"/>
            <a:ext cx="868680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st of these parameters should be stored in the member variable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defined by the Employee base cla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do so, we could implement this new constructor as follow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3199-A9B7-4698-A60D-53C97074D599}" type="slidenum">
              <a:t>37</a:t>
            </a:fld>
          </a:p>
        </p:txBody>
      </p:sp>
    </p:spTree>
  </p:cSld>
  <p:transition spd="med"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52280" y="152280"/>
            <a:ext cx="8763120" cy="34480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Manager(string fullName, int age, int empID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float currPay, string ssn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ulong numbOfOpt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numberOfOptions = numbOfOpt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ID = empID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Age = ag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Name = fullNam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ocialSecurityNumber = ssn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ay = currPay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242B-AB0A-4DA2-91B1-B8EC37366587}" type="slidenum">
              <a:t>38</a:t>
            </a:fld>
          </a:p>
        </p:txBody>
      </p:sp>
    </p:spTree>
  </p:cSld>
  <p:transition spd="med">
    <p:wipe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228600"/>
            <a:ext cx="861048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easily create a derived class, we will implement our subclas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onstructors to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explicitly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l an appropriate custom base clas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onstructor, rather than the defaul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this way, you are able to reduce the number of calls to inherite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initialization members (which saves tim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52280" y="2362320"/>
            <a:ext cx="8839440" cy="22284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This time, use the C# "base" keyword to call a cust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constructor on the base clas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Manager(string fullName, int age, int empID, float currPay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tring ssn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ulong numbOfOpts) 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: base(fullName, age, empID, currPay, ss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numberOfOptions = numbOfOpt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" y="4800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have explicitly called the five-argument constructor defined b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Employee and saved unnecessary calls during the creation of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hild cla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6F98-4339-4D89-91C7-508E05282EEB}" type="slidenum">
              <a:t>39</a:t>
            </a:fld>
          </a:p>
        </p:txBody>
      </p:sp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28600" y="152280"/>
            <a:ext cx="868680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derstanding Method Overloa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838080"/>
            <a:ext cx="8686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# allows a type to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overload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rious metho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a class has a set of identically named members that differ b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he number (or type) of parameters, the member is said to b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overloade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2666880"/>
            <a:ext cx="8686800" cy="28382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class Employe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Overloaded constructo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Employee(){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Employee(string fullName, int empID, float currPa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...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19FD-7DED-4BCF-8A08-2FE0E2900973}" type="slidenum">
              <a:t>4</a:t>
            </a:fld>
          </a:p>
        </p:txBody>
      </p:sp>
    </p:spTree>
  </p:cSld>
  <p:transition spd="med">
    <p:wipe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28600" y="304920"/>
            <a:ext cx="8686800" cy="22284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As a general rule, all subclasses should explicitly call an appropri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base class construct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SalesPerson(string fullName, int age, int empID,float currPay, string ssn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int numbOfSale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base(fullName, age, empID, currPay, ss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numberOfSales = numbOfSale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0AF5-0F38-40EF-8932-693837017D14}" type="slidenum">
              <a:t>40</a:t>
            </a:fld>
          </a:p>
        </p:txBody>
      </p:sp>
    </p:spTree>
  </p:cSld>
  <p:transition spd="med">
    <p:wipe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28600" y="81000"/>
            <a:ext cx="868680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eping Family Secrets: The protected Keywo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" y="584280"/>
            <a:ext cx="8686800" cy="33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items are directly accessible from anywhere, while privat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items cannot be accessed from any object beyond the class that ha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defined i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#  provides an additional level of accessibility: protec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a base class defines protected data or protected members, it i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ble to create a set of items that can be accessed directly by an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descenden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" y="3581280"/>
            <a:ext cx="8686800" cy="31114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// Protected state dat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ublic class Employe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// Child classes can directly access this information. Object users canno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protected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string fullNam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protected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int empI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protected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float currP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protected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string empSSN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protected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int empAg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2740-B390-449B-AD03-3D4DFFFAF16D}" type="slidenum">
              <a:t>41</a:t>
            </a:fld>
          </a:p>
        </p:txBody>
      </p:sp>
    </p:spTree>
  </p:cSld>
  <p:transition spd="med">
    <p:wipe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228600" y="152280"/>
            <a:ext cx="86868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benefit of defining protected members in a base class is tha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derived types no longer have to access the data using public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methods or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rawback is that when a derived type has direct acces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o its parent’s internal data, it is possible to bypass existing busines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rules found within public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 far as the object user is concerned, Protected data is regarded a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private. Therefore, the following is  illega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04920" y="4346640"/>
            <a:ext cx="8458200" cy="22885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 Error! Can't access protected data from object insta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loyee emp = new Employee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.empSSN = "111-11-1111"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02EE-F679-446F-91D8-88E6EE36A089}" type="slidenum">
              <a:t>42</a:t>
            </a:fld>
          </a:p>
        </p:txBody>
      </p:sp>
    </p:spTree>
  </p:cSld>
  <p:transition spd="med">
    <p:wipe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28600" y="81000"/>
            <a:ext cx="868680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enting Inheritance: Sealed Cla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981080" y="762120"/>
            <a:ext cx="4496040" cy="31352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228600" y="3962520"/>
            <a:ext cx="883908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TSalesPerson is a class representing a part-time salesperso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f we wish to ensure that no other developer is able to subclass from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PTSalesPers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o prevent others from extending a class, make use of the C# sealed  keywor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A543-F95B-4F9E-8CCB-CB347C5E93B8}" type="slidenum">
              <a:t>43</a:t>
            </a:fld>
          </a:p>
        </p:txBody>
      </p:sp>
    </p:spTree>
  </p:cSld>
  <p:transition spd="med">
    <p:wipe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52280" y="152280"/>
            <a:ext cx="8763120" cy="34480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Ensure that PTSalesPerson cannot act as a base class to oth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sealed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class PTSalesPerson : SalesPers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PTSalesPerson(string fullName, int age, int empID, float currPay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tring ssn, int numbOfSal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: base(fullName, age, empID, currPay, ssn, numbOfSal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Interesting constructor logic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Other interesting members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" y="52578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ealed keyword is most useful when creating stand-alone utilit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clas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" y="3886200"/>
            <a:ext cx="8610480" cy="11912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/ Compiler error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class ReallyPTSalesPerson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TSalesPer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...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74E7-5274-4318-8C76-966CBB12742B}" type="slidenum">
              <a:t>44</a:t>
            </a:fld>
          </a:p>
        </p:txBody>
      </p:sp>
    </p:spTree>
  </p:cSld>
  <p:transition spd="med">
    <p:wipe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228600" y="90360"/>
            <a:ext cx="868680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gramming for Containment/Deleg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" y="762120"/>
            <a:ext cx="86868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t’s examine the “has-a” relationship (also known as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ontainment/delegation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el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sume you have created a new class that models an employe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benefits packag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04920" y="2666880"/>
            <a:ext cx="8762760" cy="3751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// This type will function as a contained cla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public class BenefitPack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// Assume we have other members that repres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//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avings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plans, dental / health benefits and so 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public double 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ComputePayDeduction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return 125.0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03E8-483A-494E-B943-A390ECFDA1B5}" type="slidenum">
              <a:t>45</a:t>
            </a:fld>
          </a:p>
        </p:txBody>
      </p:sp>
    </p:spTree>
  </p:cSld>
  <p:transition spd="med">
    <p:wipe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228600" y="228600"/>
            <a:ext cx="8610480" cy="22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would be rather odd to establish an “is-a” relationship betwee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he BenefitPackage class and the employee typ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ou would like to express that each employee “has-a”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BenefitPackag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do so, you can update the Employee class definition as follow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" y="2666880"/>
            <a:ext cx="8686800" cy="22284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Employees now have benefi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class Employe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Contain a BenefitPackage obj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tected BenefitPackage empBenefits = new BenefitPackage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04920" y="518148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t this point, you have successfully contained another objec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21F7-7E3B-442E-B708-3034287BA3E8}" type="slidenum">
              <a:t>46</a:t>
            </a:fld>
          </a:p>
        </p:txBody>
      </p:sp>
    </p:spTree>
  </p:cSld>
  <p:transition spd="med">
    <p:wipe dir="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28600" y="228600"/>
            <a:ext cx="868680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expose the functionality of the contained object to the outsid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world requires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eleg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legation is simply the act of adding members to the containing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lass that make use of the contained object’s functional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04920" y="2057400"/>
            <a:ext cx="8534160" cy="4667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class Employe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tected BenefitPackage empBenefits = new BenefitPackage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Expose certain benefit behaviors of obj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double GetBenefitCost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empBenefits.ComputePayDeduction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Expose object through a custom proper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BenefitPackage Benef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t { return empBenefits;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{ empBenefits = value;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1290-8A54-4A19-8BAB-2205E4CDE821}" type="slidenum">
              <a:t>47</a:t>
            </a:fld>
          </a:p>
        </p:txBody>
      </p:sp>
    </p:spTree>
  </p:cSld>
  <p:transition spd="med">
    <p:wipe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04920" y="304920"/>
            <a:ext cx="8534160" cy="2533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r mel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l = new Manager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mel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nefi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ComputePayDeduction()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ReadLine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FA92-2400-441A-8DB1-4378A569F9F9}" type="slidenum">
              <a:t>48</a:t>
            </a:fld>
          </a:p>
        </p:txBody>
      </p:sp>
    </p:spTree>
  </p:cSld>
  <p:transition spd="med">
    <p:wipe dir="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28600" y="81000"/>
            <a:ext cx="868680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sted Type Defin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04920" y="762120"/>
            <a:ext cx="861048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C#, it is possible to define a type (enum, class, interface, struct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or delegate) directly within the scope of a class or struc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done so, the nested (or “inner”) type is considered a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ember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he nesting (or “outer”) class, and can be manipulated like an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other member (fields, properties, methods, events, etc.) during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runti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04920" y="3400560"/>
            <a:ext cx="8686800" cy="3141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ublic class OuterCla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// members of the outer cla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ublic class PublicInnerClas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// members of the inner cla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vate class PrivateInnerClass {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7C60-BE28-4B4F-B03E-D6801244D477}" type="slidenum">
              <a:t>49</a:t>
            </a:fld>
          </a:p>
        </p:txBody>
      </p:sp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52280" y="152280"/>
            <a:ext cx="8763120" cy="2533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class Triang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The overloaded Draw() metho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void Draw(int x, int y, int height, int width) {...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void Draw(float x, float y, float height, float width) {...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void Draw(Point upperLeft, Point bottomRight) {...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void Draw(Rect r) {...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2895480"/>
            <a:ext cx="88394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f C# did not support method overloading, we would be forced to create fou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uniquely named memb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3733920"/>
            <a:ext cx="8763120" cy="22284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class Triang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void DrawWithInts(int x, int y, int height, int width) {...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void DrawWIthFloats(float x, float y, float height, float width) {...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void DrawWithPoints(Point upperLeft, Point bottomRight) {...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void DrawWithRect(Rect r) {...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0DCB-A32C-4739-A10C-E39E13450D6E}" type="slidenum">
              <a:t>5</a:t>
            </a:fld>
          </a:p>
        </p:txBody>
      </p:sp>
    </p:spTree>
  </p:cSld>
  <p:transition spd="med">
    <p:wipe dir="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04920" y="304920"/>
            <a:ext cx="85341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following points ponders over why nesting is required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sting types is similar to composition (“has-a”), except tha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you have complete control over the access level of the inne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yp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stead of a contained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cause a nested type is a member of the containing class, i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an access private members of the containing cla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ftentimes, a nested type is only useful as helper for the oute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lass, and is not intended for use by the outside wor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56E3-499B-4EA2-9991-BB419EE7077F}" type="slidenum">
              <a:t>50</a:t>
            </a:fld>
          </a:p>
        </p:txBody>
      </p:sp>
    </p:spTree>
  </p:cSld>
  <p:transition spd="med">
    <p:wipe dir="d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52280" y="22860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wish to make use of a nested type from outside of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ontaining type, you must qualify it by the scope of the nesting typ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1447920"/>
            <a:ext cx="8610480" cy="3385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/ Create and use the public inner class. OK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erClass.PublicInnerClass inne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ner = new OuterClass.PublicInnerClass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/ Compiler Error! Cannot access the private cla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erClass.PrivateInnerClass inner2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ner2 = new OuterClass.PrivateInnerClass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1571-AC35-4D14-BEF8-7FC489B90CA4}" type="slidenum">
              <a:t>51</a:t>
            </a:fld>
          </a:p>
        </p:txBody>
      </p:sp>
    </p:spTree>
  </p:cSld>
  <p:transition spd="med">
    <p:wipe dir="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76320" y="152280"/>
            <a:ext cx="876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make use of this concept within our employees example, assum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we have now nested the BenefitPackage directly within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Employee class typ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04920" y="1523880"/>
            <a:ext cx="8610480" cy="3143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Nesting the BenefitPacka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class Employe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class BenefitPack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double ComputePayDeduction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 return 125.0;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04920" y="472428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nesting process can be as “deep” as you requir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DAAC-54A9-4CCD-9735-B6BF28918F4F}" type="slidenum">
              <a:t>52</a:t>
            </a:fld>
          </a:p>
        </p:txBody>
      </p:sp>
    </p:spTree>
  </p:cSld>
  <p:transition spd="med">
    <p:wipe dir="d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04920" y="76320"/>
            <a:ext cx="8534160" cy="43628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Employee nests BenefitPacka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class Employe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BenefitPackage nests BenefitPackageLeve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class BenefitPack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double ComputePayDeduction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 return 125.0;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enum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nefitPackage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, Gold, Platin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04920" y="4495680"/>
            <a:ext cx="8534160" cy="22284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Creating a BenefitPackageLevel vari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ployee.BenefitPackage.BenefitPackageLevel myBenefitLevel 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ployee.BenefitPackage.BenefitPackageLevel.Platinum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03B0-A7A0-4E71-B6B6-CBB70D6B74CD}" type="slidenum">
              <a:t>53</a:t>
            </a:fld>
          </a:p>
        </p:txBody>
      </p:sp>
    </p:spTree>
  </p:cSld>
  <p:transition spd="med">
    <p:wipe dir="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228600" y="81000"/>
            <a:ext cx="868680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Third Pillar: C#'s Polymorphic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" y="762120"/>
            <a:ext cx="8763120" cy="25628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Employee defines a new method that gives a bonus to a given employe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class Employe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void GiveBonus(float amou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rrPay += amoun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28600" y="35053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cause this method has been defined as public, you can now giv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bonuses to sales-persons and manag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28600" y="4538520"/>
            <a:ext cx="8763120" cy="20142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Give each child class a bon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ager chucky = new Manager("Chucky", 92, 100000, "333-23-2322", 9000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ucky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iveBonu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300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ucky.DisplayStats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esPerson fran = new SalesPerson("Fran", 93, 3000, "932-32-3232", 31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an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iveBonu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200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an.DisplayStats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6E68-63E5-4AC6-8EFF-215447B08590}" type="slidenum">
              <a:t>54</a:t>
            </a:fld>
          </a:p>
        </p:txBody>
      </p:sp>
    </p:spTree>
  </p:cSld>
  <p:transition spd="med">
    <p:wipe dir="d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28600" y="65160"/>
            <a:ext cx="8763120" cy="33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problem with the current design is that the inherit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GiveBonus() method operates identically for each subcla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bonus of a salesperson or part-time salesperson should take into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account the number of sal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alter our current design, we need to make use of the C#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"virtual“ and "override" keyword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a base class wishes to define a method that may be overridde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by a subclass, it must specify the method as virtua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04920" y="3641760"/>
            <a:ext cx="8610480" cy="3143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class Employe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GiveBonus() has a default implementation, howe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child classes are free to override this behavi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irtu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void GiveBonus(float amoun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rrPay += amount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A0D7-3659-4AC1-8A68-1C0CF0E7DBAC}" type="slidenum">
              <a:t>55</a:t>
            </a:fld>
          </a:p>
        </p:txBody>
      </p:sp>
    </p:spTree>
  </p:cSld>
  <p:transition spd="med">
    <p:wipe dir="d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28600" y="22860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a subclass wishes to redefine a virtual method, it is required to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reimplement the method using the "override" keyword. For examp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28600" y="1143000"/>
            <a:ext cx="8686800" cy="4667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class SalesPerson 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mploye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verrid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id GiveBonus(float amoun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 salesBonus = 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(numberOfSales &gt;= 0 &amp;&amp; numberOfSales &lt;= 10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lesBonus = 1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se if(numberOfSales &gt;= 101 &amp;&amp; numberOfSales &lt;= 20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lesBonus = 15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lesBonus = 20; // Anything greater than 20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a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GiveBonus (amount * salesBonus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2046-1548-4DC2-88E6-F38973B70E87}" type="slidenum">
              <a:t>56</a:t>
            </a:fld>
          </a:p>
        </p:txBody>
      </p:sp>
    </p:spTree>
  </p:cSld>
  <p:transition spd="med">
    <p:wipe dir="d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2280" y="76320"/>
            <a:ext cx="8763120" cy="405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class Manager 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mploye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te Random r = new Random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Manager get some number or new stock options, in addition to raw cas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overrid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id GiveBonus(float amoun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Increase salar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.GiveBonus(amount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And give some new stock options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mberOfOptions +=(ulong)r.Next(500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77840" y="4233960"/>
            <a:ext cx="8661240" cy="24415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A better bonus system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r chucky = new Manager("Chucky", 92, 100000, "333-23-2322", 9000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ucky.GiveBonus(300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ucky.DisplayStats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lesPerson fran = new SalesPerson("Fran", 93, 3000, "932-32-3232", 31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an.GiveBonus(200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n.DisplayStats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E6F0-C5E3-46E6-B2F0-DB46CFC28AC0}" type="slidenum">
              <a:t>57</a:t>
            </a:fld>
          </a:p>
        </p:txBody>
      </p:sp>
    </p:spTree>
  </p:cSld>
  <p:transition spd="med">
    <p:wipe dir="d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04920" y="152280"/>
            <a:ext cx="861048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visiting the sealed Keywo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28600" y="762120"/>
            <a:ext cx="868680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ealed keyword can also be applied to type members to preven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virtual members from being further overridden by derived typ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can be helpful when you do not wish to seal an entire class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just a few select methods or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80880" y="2666880"/>
            <a:ext cx="8382240" cy="3143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This class can be extended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however, GiveBonus() cannot be overriden by derived clas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class PTSalesPerson 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lesPers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verride seale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id GiveBonus(float amoun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A81F-CCBA-497E-A45D-7514DD1DE733}" type="slidenum">
              <a:t>58</a:t>
            </a:fld>
          </a:p>
        </p:txBody>
      </p:sp>
    </p:spTree>
  </p:cSld>
  <p:transition spd="med">
    <p:wipe dir="d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28600" y="152280"/>
            <a:ext cx="8610480" cy="6464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/ example for overrid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namespace override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class B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public virtual void Display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System.Console.WriteLine("BC::Display"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class DC : B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public override void Display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System.Console.WriteLine("DC::Display"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}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2759-0F50-49E8-BF59-3629DCF61098}" type="slidenum">
              <a:t>59</a:t>
            </a:fld>
          </a:p>
        </p:txBody>
      </p:sp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52280" y="15228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member that when we are overloading a member,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return type alone is not unique enough. The following is  illega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1143000"/>
            <a:ext cx="8610480" cy="30200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class Triang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 Error! Cannot overload metho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 based solely on return value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float GetX() {...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int GetX() {...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3BB9-04C6-4669-8181-750AFFBC73BF}" type="slidenum">
              <a:t>6</a:t>
            </a:fld>
          </a:p>
        </p:txBody>
      </p:sp>
    </p:spTree>
  </p:cSld>
  <p:transition spd="med">
    <p:wipe dir="d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228600" y="228600"/>
            <a:ext cx="8610480" cy="405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lass Prog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static void Main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BC b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b = new BC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b.Display();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b = new DC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b.Display();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04920" y="4495680"/>
            <a:ext cx="8534160" cy="1015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::Displ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C::Displa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D6FD-C387-40FD-9AE6-137951D368E2}" type="slidenum">
              <a:t>60</a:t>
            </a:fld>
          </a:p>
        </p:txBody>
      </p:sp>
    </p:spTree>
  </p:cSld>
  <p:transition spd="med">
    <p:wipe dir="d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28600" y="152280"/>
            <a:ext cx="8534520" cy="6403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one more example for method overrid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namespace override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lass B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ublic virtual void Display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System.Console.WriteLine("BC::Display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lass DC : B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ublic override void Display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System.Console.WriteLine("DC::Display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lass TC : D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193D-DDFA-4E8D-8CD8-AF26C15E2FC0}" type="slidenum">
              <a:t>61</a:t>
            </a:fld>
          </a:p>
        </p:txBody>
      </p:sp>
    </p:spTree>
  </p:cSld>
  <p:transition spd="med">
    <p:wipe dir="d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380880" y="304920"/>
            <a:ext cx="8458200" cy="34480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lass Prog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BC b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b = new TC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b.Display(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04920" y="4038480"/>
            <a:ext cx="8534160" cy="459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C::Displa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6B80-0469-46FD-86AC-32B65DD08FCD}" type="slidenum">
              <a:t>62</a:t>
            </a:fld>
          </a:p>
        </p:txBody>
      </p:sp>
    </p:spTree>
  </p:cSld>
  <p:transition spd="med">
    <p:wipe dir="d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52280" y="152280"/>
            <a:ext cx="8686800" cy="6677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 Program to demonstrate virtual &amp; override keywor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namespace virtual_overr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public class de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String dID,dnam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public dept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dID="JN-MCA"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dname="MCA"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virtual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void rea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Console.WriteLine("the dept ID is "+dID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Console.WriteLine("the dept name is "+dname);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7A83-7FD9-4119-B814-D66869556D56}" type="slidenum">
              <a:t>63</a:t>
            </a:fld>
          </a:p>
        </p:txBody>
      </p:sp>
    </p:spTree>
  </p:cSld>
  <p:transition spd="med">
    <p:wipe dir="d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52280" y="152280"/>
            <a:ext cx="8686800" cy="5580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public class director:de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String addr,nam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public director(String ad,String 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addr=ad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name=n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override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void rea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base.read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Console.WriteLine("the director name is " + name)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Console.WriteLine("the director address is " + addr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B8C8-A8FC-4E73-9CE5-EAF18C14B216}" type="slidenum">
              <a:t>64</a:t>
            </a:fld>
          </a:p>
        </p:txBody>
      </p:sp>
    </p:spTree>
  </p:cSld>
  <p:transition spd="med">
    <p:wipe dir="d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52280" y="152280"/>
            <a:ext cx="8686800" cy="59461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public class lecturer : de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String laddr, lnam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public lecturer(String add, String 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laddr = add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lname = n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override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void rea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Console.WriteLine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base.read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Console.WriteLine("the lecturer name is " + l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Console.WriteLine("the lecturer address is " + laddr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65F6-D1D2-4099-9D4E-950B515D6BC0}" type="slidenum">
              <a:t>65</a:t>
            </a:fld>
          </a:p>
        </p:txBody>
      </p:sp>
    </p:spTree>
  </p:cSld>
  <p:transition spd="med">
    <p:wipe dir="d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52280" y="152280"/>
            <a:ext cx="8686800" cy="48488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class virtual_overr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public static void Main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director d = new director("Shimoga", "Dr. XYZ"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d.read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lecturer l = new lecturer("Bangalore", "Mr. ABC"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l.read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F649-663C-45E4-9A5D-FD577FA0E80F}" type="slidenum">
              <a:t>66</a:t>
            </a:fld>
          </a:p>
        </p:txBody>
      </p:sp>
    </p:spTree>
  </p:cSld>
  <p:transition spd="med">
    <p:wipe dir="d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228600" y="81000"/>
            <a:ext cx="868680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ining (and Understanding) Abstract Cla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28600" y="762120"/>
            <a:ext cx="8763120" cy="47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rrently, the Employee base class has been designed to suppl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protected member variables for its sub-class, as well as suppl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wo virtual methods (GiveBonus() and DisplayStats()) that may b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overridden by a given descend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t the problem is we can directly create instances of the Employe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base class, &amp; we don’t want anyone to create its objec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far better design for our example is to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revent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bility to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directly create a new Employee object in cod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can enforce this in program by using the abstract  keywor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33520" y="3429000"/>
            <a:ext cx="8305560" cy="459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loyee X = new Employee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A0F3-59C5-44D9-9923-79AA42EF10BF}" type="slidenum">
              <a:t>67</a:t>
            </a:fld>
          </a:p>
        </p:txBody>
      </p:sp>
    </p:spTree>
  </p:cSld>
  <p:transition spd="med">
    <p:wipe dir="d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52280" y="228600"/>
            <a:ext cx="8839440" cy="11304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Update the Employee class as abstract to prevent direct instanti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stra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class Employ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...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152388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th this, if you now attempt to create an instance of the Employe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lass, you are issued a compiletime erro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28600" y="2362320"/>
            <a:ext cx="8686800" cy="8254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/ Error! Can't create an instance of an abstract cla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loyee X = new Employee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65BF-6ACE-428F-A120-21785C2F0662}" type="slidenum">
              <a:t>68</a:t>
            </a:fld>
          </a:p>
        </p:txBody>
      </p:sp>
    </p:spTree>
  </p:cSld>
  <p:transition spd="med">
    <p:wipe dir="d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228600" y="81000"/>
            <a:ext cx="868680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forcing Polymorphic Activity: Abstract 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28600" y="762120"/>
            <a:ext cx="8763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milar to abstract classes, we can also create abstract metho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ce a class has been defined as an abstract base class, it ma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define any number of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bstract memb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bstract methods can be used whenever we wish to define a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method that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oes not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pply any implementat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5269-DB6F-4948-81B9-F1F04737AD6D}" type="slidenum">
              <a:t>69</a:t>
            </a:fld>
          </a:p>
        </p:txBody>
      </p:sp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52280" y="92160"/>
            <a:ext cx="868680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lf-Reference in C# Using t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320" y="77796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thi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keyword is used when we wish to explicitly reference the field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nd members of th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urrent objec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" y="1676520"/>
            <a:ext cx="8686800" cy="2533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Explicitly use "this" to resolve name-clas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Employee(string fullName, int empID, float currPa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Assign the incoming params to my state da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fullName = fullNam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empID = empID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currPay = currPay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2280" y="4343400"/>
            <a:ext cx="88394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particular C# keyword is used when you wish to explicitl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reference the fields and members of th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urrent objec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reason we made use of this in our custom constructor, was to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void clashes between the parameter names and names of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internal state variabl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9051-1690-491C-9FA9-9B9BCBDEB2C9}" type="slidenum">
              <a:t>7</a:t>
            </a:fld>
          </a:p>
        </p:txBody>
      </p:sp>
    </p:spTree>
  </p:cSld>
  <p:transition spd="med">
    <p:wipe dir="d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228600" y="76320"/>
            <a:ext cx="8610480" cy="66646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abstract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Shap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rotected string petNam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ublic Shape(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// construc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etName = "Noname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ublic Shape(String s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// construc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etName = s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virtual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void Draw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onsole.WriteLine("Shape.Draw(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ublic string PetNa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// proper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return petNam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etName = valu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574E-12CF-4821-A3B4-AF747CBDDFF4}" type="slidenum">
              <a:t>70</a:t>
            </a:fld>
          </a:p>
        </p:txBody>
      </p:sp>
    </p:spTree>
  </p:cSld>
  <p:transition spd="med">
    <p:wipe dir="d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52280" y="152280"/>
            <a:ext cx="8763120" cy="54478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ublic class 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Circle : Shap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ublic Circle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ublic Circle(String name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: base(nam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ublic class 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Hexagon : Shap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ublic Hexag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ublic Hexagon(String name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: base(nam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override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void Draw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onsole.WriteLine("Drawing {0} the Hexagon", petName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37E7-E2B9-44C1-BED7-E76FBB395D24}" type="slidenum">
              <a:t>71</a:t>
            </a:fld>
          </a:p>
        </p:txBody>
      </p:sp>
    </p:spTree>
  </p:cSld>
  <p:transition spd="med">
    <p:wipe dir="d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228600" y="152280"/>
            <a:ext cx="8763120" cy="4179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lass Prog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static void Main(string[] arg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Hexagon hex = new Hexagon("Beth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hex.Draw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ircle cir = new Circle("cindy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ir.Draw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Shape h = new Circle("hhhhh"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h.Draw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ape s = new Shape();  // not allow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28600" y="4495680"/>
            <a:ext cx="8686800" cy="15721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Drawin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h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the Hexag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pe.Draw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pe.Draw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145C-EE5D-484E-B8A6-7DF4FB417F36}" type="slidenum">
              <a:t>72</a:t>
            </a:fld>
          </a:p>
        </p:txBody>
      </p:sp>
    </p:spTree>
  </p:cSld>
  <p:transition spd="med">
    <p:wipe dir="d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228600" y="76320"/>
            <a:ext cx="8610480" cy="66646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namespace abstract_class_metho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//demonstrating abstract class and metho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abstract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lass Shap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rotected string petNam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ublic Shape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etName = "Noname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ublic Shape(String 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etName = s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void Draw(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ublic string Pet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return petNam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etName = valu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2D34-F5FE-4CA9-9D16-158D85396467}" type="slidenum">
              <a:t>73</a:t>
            </a:fld>
          </a:p>
        </p:txBody>
      </p:sp>
    </p:spTree>
  </p:cSld>
  <p:transition spd="med">
    <p:wipe dir="d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228600" y="76320"/>
            <a:ext cx="8610480" cy="6712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public class Circle : Shap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public Circle(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public Circle(String name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: base(name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sz="1500" spc="-1" strike="noStrike">
                <a:solidFill>
                  <a:srgbClr val="000000"/>
                </a:solidFill>
                <a:latin typeface="Times New Roman"/>
              </a:rPr>
              <a:t>override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void Draw(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Console.WriteLine("Drawing {0} the circle", petNam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public class Hexagon : Shap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public Hexagon(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public Hexagon(String name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: base(name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sz="1500" spc="-1" strike="noStrike">
                <a:solidFill>
                  <a:srgbClr val="000000"/>
                </a:solidFill>
                <a:latin typeface="Times New Roman"/>
              </a:rPr>
              <a:t>override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void Draw(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Console.WriteLine("Drawing {0} the Hexagon", petNam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9E8D-0BA0-4BD6-8E0A-7E1D81576E99}" type="slidenum">
              <a:t>74</a:t>
            </a:fld>
          </a:p>
        </p:txBody>
      </p:sp>
    </p:spTree>
  </p:cSld>
  <p:transition spd="med">
    <p:wipe dir="d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228600" y="289080"/>
            <a:ext cx="8610480" cy="4667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lass Prog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Hexagon hex = new Hexagon("Beth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hex.Draw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ircle cir = new Circle("cindy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ir.Draw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hape h = new Circle("hhhhh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h.Draw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Shape s = new Shape();  // not allow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3643-FE6F-4C0D-A399-DF63DBD8C291}" type="slidenum">
              <a:t>75</a:t>
            </a:fld>
          </a:p>
        </p:txBody>
      </p:sp>
    </p:spTree>
  </p:cSld>
  <p:transition spd="med">
    <p:wipe dir="d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228600" y="304920"/>
            <a:ext cx="8763120" cy="375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An array of various shap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lass Prog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static void Main(string[] arg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hape[] s = {new Hexagon(), new Hexagon("mick"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Hexagon("linda")}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for (int i = 0; i &lt; s.Length; i++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[i].Draw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04920" y="43434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we declare a class as abstract, it indicates that class cannot b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instantiated.  Only its derived classes (which are not marke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bstract) can be instantia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1D43-B6D1-4F25-BEBC-FAE4EEB272AC}" type="slidenum">
              <a:t>76</a:t>
            </a:fld>
          </a:p>
        </p:txBody>
      </p:sp>
    </p:spTree>
  </p:cSld>
  <p:transition spd="med">
    <p:wipe dir="d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228600" y="152280"/>
            <a:ext cx="876312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ersioning Class Memb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28600" y="762120"/>
            <a:ext cx="8686800" cy="29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# provides a facility that is the logical opposite of metho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overriding: method hiding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mally speaking, if a derived class redeclares an identical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member inherited from a base class, the derived class has hidden (o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hadowe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the parent’s memb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sume that we have added new class named Oval to the curren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hape hierarch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990720" y="3809880"/>
            <a:ext cx="7162560" cy="2820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511C-05D9-44C6-BC39-95C2932EDB1B}" type="slidenum">
              <a:t>77</a:t>
            </a:fld>
          </a:p>
        </p:txBody>
      </p:sp>
    </p:spTree>
  </p:cSld>
  <p:transition spd="med">
    <p:wipe dir="d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228600" y="152280"/>
            <a:ext cx="8686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Oval also defines a method named Draw(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we wish to prevent the Oval class from inheriting any previou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drawing logic, &amp; this technique is called versioning a cla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is accomplished using the “new” keywor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28600" y="2286000"/>
            <a:ext cx="8610480" cy="405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This class extends Circle, but hides the inherited Draw() metho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class Oval : Cir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Oval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.PetName = "Joe"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Hide any Draw() implementation above m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id Draw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Oval specific drawing algorith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F203-42F6-4DDB-9BAB-7A2E615BB799}" type="slidenum">
              <a:t>78</a:t>
            </a:fld>
          </a:p>
        </p:txBody>
      </p:sp>
    </p:spTree>
  </p:cSld>
  <p:transition spd="med">
    <p:wipe dir="d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228600" y="15228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usage of  “new” keyword gurantees that if an object user make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n instance of the Oval class and calls Draw(), the  derive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implementation is call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28600" y="1447920"/>
            <a:ext cx="8763120" cy="1008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The Draw() defined by Oval will be call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al o = new Oval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.Draw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28600" y="259092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is possible to trigger the base class  implementation of a hidde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method using a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explicit ca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28600" y="3505320"/>
            <a:ext cx="8763120" cy="1008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The Draw() defined by Circle will be called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al o = new Oval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(Circle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Draw();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Cast o to base clas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1D67-269B-4F39-B703-8AD6EE056816}" type="slidenum">
              <a:t>79</a:t>
            </a:fld>
          </a:p>
        </p:txBody>
      </p:sp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28600" y="228600"/>
            <a:ext cx="8686800" cy="22284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When there is no name clash, "this" is assum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Employee(string name, int id, float pa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llName = nam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pID = id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rrPay = pay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2819520"/>
            <a:ext cx="8686800" cy="19234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Employee(string name, int id, float pa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.fullName = nam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.empID = id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.currPay = pay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1453-A281-43E1-AA7B-F51D82EBAF75}" type="slidenum">
              <a:t>8</a:t>
            </a:fld>
          </a:p>
        </p:txBody>
      </p:sp>
    </p:spTree>
  </p:cSld>
  <p:transition spd="med">
    <p:wipe dir="d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228600" y="152280"/>
            <a:ext cx="876312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sting Between Ty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" y="838080"/>
            <a:ext cx="87631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sider the employee hierarchy. The topmost member in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hierarchy is System.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refore, everything “is-a” object. Given this fact, it is legal to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store an instance of any type within a object variab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52280" y="2666880"/>
            <a:ext cx="8839440" cy="2410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A Manager "is-a" System.Obje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 frank = new Manager("Frank Zappa", 9, 40000, "111-11-1111", 5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A Manager "is-a" Employee to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Employee moonUnit = new Manager("MoonUnit Zappa", 2, 20000, "101-11-1321", 1)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A PTSalesPerson "is-a" SalesPers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lesPerson jill = new PTSalesPerson("Jill", 834, 100000, "111-12-1119", 90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7D1F-0843-4D5A-AC74-267C88318A58}" type="slidenum">
              <a:t>80</a:t>
            </a:fld>
          </a:p>
        </p:txBody>
      </p:sp>
    </p:spTree>
  </p:cSld>
  <p:transition spd="med">
    <p:wipe dir="d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228600" y="76320"/>
            <a:ext cx="87631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first law of casting between class types is that when two classe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re related by an “is-a” relationship, it is always safe to store a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derived type within a base class referenc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is called a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mplicit cas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28600" y="1752480"/>
            <a:ext cx="8686800" cy="22885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class TheMach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static void FireThisPerson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mployee 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Remove from database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Get key and pencil sharpener from fired employee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28600" y="403848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can effectively pass any descendent from the Employee clas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into above method directly, given the “is-a” relationship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28600" y="5029200"/>
            <a:ext cx="8763120" cy="1236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Streamline the staff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heMachine.FireThisPerson(moonUnit); // "moonUnit" was declared as an Employee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heMachine.FireThisPerson(jill); // "jill" was declared as a SalesPerson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163F-DA1D-4881-BADE-276443C5F389}" type="slidenum">
              <a:t>81</a:t>
            </a:fld>
          </a:p>
        </p:txBody>
      </p:sp>
    </p:spTree>
  </p:cSld>
  <p:transition spd="med">
    <p:wipe dir="d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152280" y="2286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we want to fire Frank Zappa (currently stored in a generic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ystem.Object reference) &amp; pass the frank object directly into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heMachine.FireThisPerson() as follow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52280" y="1523880"/>
            <a:ext cx="8763120" cy="1313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A Manager "is-a" object, but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 frank = new Manager("Frank Zappa", 9, 40000, "111-11-1111", 5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Machine.FireThisPerson(frank);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Error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52280" y="3048120"/>
            <a:ext cx="87631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are issued a compiler error. The reason is we canno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utomatically treat a System.Object as a derived Employee directly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s it is a base typ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can satisfy the compiler by performing a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explicit cas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52280" y="4952880"/>
            <a:ext cx="8839440" cy="1008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Cast from the generic System.Object into a Manag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r mgr = (Manager)frank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Frank's options: {0}", mgr.NumbOpts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05E4-98C6-474D-95C0-1CDEAC37E152}" type="slidenum">
              <a:t>82</a:t>
            </a:fld>
          </a:p>
        </p:txBody>
      </p:sp>
    </p:spTree>
  </p:cSld>
  <p:transition spd="med">
    <p:wipe dir="d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90440" y="114480"/>
            <a:ext cx="876312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termining the “Type of” Employ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52280" y="549360"/>
            <a:ext cx="8839440" cy="18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C# language provides three ways to determine whether a given base clas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reference is actually referring to a derived type: explicit casting (previously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examined), the </a:t>
            </a:r>
            <a:r>
              <a:rPr b="1" lang="en-US" sz="2000" spc="-1" strike="noStrike">
                <a:solidFill>
                  <a:srgbClr val="ffcc66"/>
                </a:solidFill>
                <a:latin typeface="Times New Roman"/>
              </a:rPr>
              <a:t>i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keyword, and the </a:t>
            </a:r>
            <a:r>
              <a:rPr b="1" lang="en-US" sz="2000" spc="-1" strike="noStrike">
                <a:solidFill>
                  <a:srgbClr val="ffcc66"/>
                </a:solidFill>
                <a:latin typeface="Times New Roman"/>
              </a:rPr>
              <a:t>a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keywor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is keyword returns a Boolean that signals whether the base class  reference i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compatible with a given derived typ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28600" y="2438280"/>
            <a:ext cx="8686800" cy="4202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ublic class TheMachin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ublic static void FireThisPerson(Employee e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if(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e is SalesPerson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onsole.WriteLine("Lost a sales person named {0}", e.GetFullName()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onsole.WriteLine("{0} made {1} sale(s)...",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.GetFullName(), ((SalesPerson)e).NumbSales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if(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e is Manager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onsole.WriteLine("Lost a suit named {0}", e.GetFullName()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onsole.WriteLine("{0} had {1} stock options...",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.GetFullName(), ((Manager)e).NumbOpts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C915-A11E-45F7-92B9-E858F7A15E06}" type="slidenum">
              <a:t>83</a:t>
            </a:fld>
          </a:p>
        </p:txBody>
      </p:sp>
    </p:spTree>
  </p:cSld>
  <p:transition spd="med">
    <p:wipe dir="d"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304920" y="30492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 an alternative, you could make use of the as keyword to obtain a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reference to the more derived type (if the types are incompatible,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reference is set to null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28600" y="1600200"/>
            <a:ext cx="8686800" cy="11912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esPerson p = e as SalesPerson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(p != nul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ole.WriteLine("# of sales: {0}", p.NumbSales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2191-13EA-4284-BAE1-0779C33DE353}" type="slidenum">
              <a:t>84</a:t>
            </a:fld>
          </a:p>
        </p:txBody>
      </p:sp>
    </p:spTree>
  </p:cSld>
  <p:transition spd="med">
    <p:wipe dir="d"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228600" y="152280"/>
            <a:ext cx="876312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umerical Ca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52280" y="83808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addition to casting between objects, the numerical conversion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follow more or less the same ru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28600" y="1676520"/>
            <a:ext cx="8763120" cy="703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 x = 3000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te b =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y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x;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Loss of information here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28600" y="2666880"/>
            <a:ext cx="8763120" cy="703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te b = 3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 x = b;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No loss of information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3402-27B6-4E71-AED1-0E295E9ED1BB}" type="slidenum">
              <a:t>85</a:t>
            </a:fld>
          </a:p>
        </p:txBody>
      </p:sp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28600" y="76320"/>
            <a:ext cx="86868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warding Constructor Calls Using th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70164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other use of the this keyword is to force one constructor to call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nother in order to avoid redundant member initialization logi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1523880"/>
            <a:ext cx="8686800" cy="3934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class Employe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Employee(string fullName, int empID, float currPa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s.fullName = fullNam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s.empID = empI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s.currPay = currP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If the user calls this ctor, forward to the 3-arg vers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ublic Employee(string fullNam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 this(fullName, IDGenerator.GetNewEmpID(), 0.0F) {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2280" y="556272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ever, to fully construct a new Employee, we need to ensure tha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we have a proper ID and rate of p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462B-2A2E-4B2E-BB2A-22944BF3574F}" type="slidenum">
              <a:t>9</a:t>
            </a:fld>
          </a:p>
        </p:txBody>
      </p:sp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5T16:30:03Z</dcterms:created>
  <dc:creator>Hemanth</dc:creator>
  <dc:description/>
  <dc:language>en-US</dc:language>
  <cp:lastModifiedBy>Hemanth</cp:lastModifiedBy>
  <dcterms:modified xsi:type="dcterms:W3CDTF">2012-09-23T18:39:06Z</dcterms:modified>
  <cp:revision>489</cp:revision>
  <dc:subject/>
  <dc:title>Object-Oriented Programming with C#</dc:title>
</cp:coreProperties>
</file>